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24C5-F62A-4516-8B82-8836856BC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71F2-4309-4CE7-9912-3F16403FD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4D95-BC5E-421D-8D61-6FEF1327F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3CDE-4DD3-4DDA-AA4B-F9A3C9437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1A585-B9EA-4D7C-B04F-F7326E336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8D74E-87D2-4740-BACB-0B0B16C9B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94B29-671A-4E62-9485-EF32B77FE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65833-A20E-4873-8E96-AC46E416D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36AE9-7FCB-48ED-8DC2-70CDC6860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6E312-D503-43E2-B0E5-AF941DAD1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F5A84-4FA2-4949-84BE-711898CD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8B28-CC03-4AB3-9E79-D7D0AA881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AA70A-235C-4CEC-98B9-727BB364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4C5E9-ECCB-426B-A7EB-8D2527A4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FADD8-7905-48DB-A6F2-2A0E7113A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A5227-E4BD-4DEC-BCD5-506508C13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A7E1B-C71A-4D2F-8C31-DF7CAD2A3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7D916-CA8B-463A-82C2-4C9918B41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50988-ED11-4690-903E-354495B91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2DA09-98D8-4616-9459-33F890F9C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B663B-FFC4-4330-94F4-ACAE30E66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92BFE-4A39-4607-8845-56B501F73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467F-AE04-408E-9D4E-BFEFB5900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1DF93-7C02-4F67-8714-C80AC58F2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CF9CF-68A2-4577-B5F5-7F5ECC17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264D1-0306-4A6A-B777-037E4168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E0C40-96FF-41F2-A015-F94E0658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D932B-9B9C-4031-B801-DF72C2093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FDA76-0B5C-4C4C-86A2-41C45BC73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7C30A-976F-4733-9E0B-3FF67E268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DEACD-75C3-4E5D-A10D-BA9C0985D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D3F26-F321-48C2-80F4-28009214E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BCF48-EBEA-492E-816E-2DD67CCCD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DBF9-BAFA-47C9-B475-63EB46560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C925D-3306-4875-8E7A-A1017DDD0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90020-18AC-421B-97FD-F2761FBB2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6E9E7-94C5-4DFE-82CB-2F92A5CDF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BA791-2D6B-49AE-B95C-F0B370B4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E256D-897B-4B97-B07D-FB2B6254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0F4C4-13B3-4167-A520-358587A3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715EA-92D9-40CD-9F06-C4CDE9A10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A89D7-2A83-47D4-BEFB-682330432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56CE6-CBE0-4489-9101-8E2B9239C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9D085-57C8-4ACC-BFAB-34DB3E396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B069-94FC-494B-87A1-19851A24C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87493-B373-47E3-81E3-13BCDB6EC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EBDEC-7606-4046-9120-A295702D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AC202-A370-4719-9DD7-DC38DBD1A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FCEE8-0B43-41D8-BA40-AE2CF08F5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A0197-2EBA-4C9B-B79F-898386592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B63FB-6561-4ECB-9E62-FEF107CA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409C6-CAFC-40F8-B3D3-8E186585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A4C16-64FC-47C5-A42F-97BA770D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D46E3-3BD8-46FB-8A23-1D7230CA9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01E17-3BB9-4280-9601-77F5BB230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5877-284B-46C8-86D1-663B258EB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A7BA5-B59C-4F7A-906A-96DF21B46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959A4-0F4E-42CF-8B48-24CA66164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92E70-A8AE-42F7-93AB-00041A8FB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0BD53-7B54-470E-A2D0-E16C06113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EC8B1-7DFC-489F-AAA5-8B8005C0D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12A73-7637-4DE7-A3C8-4A4AF9108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3AECC-F0FF-45FE-9FD3-934AD526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DD9F4C-1E6C-4764-82C8-051D5B51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DECAD-B397-432A-9D03-04CEDAE7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65724-526C-458B-A28A-2BBDC509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6E00-B9A2-4763-8495-E99D6869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0B330-F89F-4559-A4BA-6449E59F3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B214C-2CEF-401D-92AF-62E00DADC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5C1AB-ECE6-4766-9096-8783E4BB9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A236D-1898-4F18-8EFE-020754A19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6DC9D3-8439-4BE3-8976-0013152C2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8C4564-85C5-42DB-8D10-E07C1A087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30CE9D-C9AA-429C-91CC-3F595C3AD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8CB201-C2DF-4330-B77C-FB36801E2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2C1601-5DD0-44DD-B5ED-CAD95C0B5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E70CA8-3BA0-4D5B-8F09-6DEAB7A4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0828-7DDE-4D1A-9B43-F7729792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3C03C-AA37-4485-B01B-9781DD23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9FCCE-4199-4F5F-A7D3-38D89C24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7FFD6-BD30-4A3E-AC79-7098EB58C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E24DA6-82BC-4558-B50A-5B8D6F74D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29FB6C-A009-4B1E-9F25-65B49DBDD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413B-EF1A-4A4A-BE12-033886F6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88149-29DA-482E-93ED-A62A29233118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1C41A-7ADA-4DED-8FC6-05FFE5F7DC8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05BBE-8BFC-4CD6-ADC9-99B5FE6E1FD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FF0CA-28CF-4DF9-A52A-9C1DA7CD6EF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AD6A0-F11D-4758-9479-237AFA35C5F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E3675-4D80-4E1A-B0D7-2CA5585DD6C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6EF53-D6D6-4543-A19D-C6427A00F5E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hapter Eigh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Digital Journalis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Blog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at are Weblogs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o creates blogs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y are blogs important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ut are blogs journalism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riting for Online Medi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Web is changing reader habits and challenging journalistic convention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Five Tips for Online Stori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"Chunk" your information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weak your type to make it easier to scan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think what a "story" i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nhance your story with extra element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llaborat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Online Package Planning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 form that helps reporters and editors plan stories for the Web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he Future of New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xperts answer the question: How will Americans get their news in the year 2025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From Print to the Web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Will electronic newspapers replace dead-tree newspapers someday? Probably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Online media offer readers more variety—and better yet, more control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Navigation is a crucial factor on news Web sites: Sites must be informative, inviting and intuitively logical, so users can roam at random, following their curiosities and customizing their news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Electronic news reporters need to develop new storytelling techniques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Differences between Print and Web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imeliness: Web stories can be posted seconds after they're written and updated constantly as events unfold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mages usually run smaller on Web pages (readers can click to enlarge)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nline text uses bigger type, and stories run in just one column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 print story consists of just text, photos and graphic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Differences between Print and Web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Online stories can become part of a complex multimedia package, combining text, photos, audio, video, animated graphics, interactive chat and more. Stories, images and digital extras can be linked together in layers, with related options just a click away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Gill Sans MT"/>
              </a:rPr>
              <a:t>Though the options are more diverse online, journalistic standards and reporting techniques should remain the SAME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Media Convergenc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ewsrooms must work together to create a solid news sourc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Convergence in three basic form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Gill Sans MT"/>
              </a:rPr>
              <a:t>Newsroom convergence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: Journalists from different media (TV, radio, newspaper, online) all share the same workspace, instead of occupying separate offices in separate buildings.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Gill Sans MT"/>
              </a:rPr>
              <a:t>Newsgathering convergence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: Reporters, editors and photographers collaborate on story production—Journalists multitask in multimedia.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Gill Sans MT"/>
              </a:rPr>
              <a:t>Content convergence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: The final story is presented in multimedia form, combining text, images, audio, video, blogs, podcasts, slide-shows, etc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Navigating Online News Sit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home page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e gateway to the online news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inks users to every related page. It must be comprehensive, yet easy to navigate; busy, yet clean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tory links require compelling headlines and concise, engaging summaries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Key elements on the home page defined (time/date, index, lead story, page depth, footer, navigation button, search engine, ads/promos, interactive extras, links)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Online Storytelling Option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printed word remains the fundamental building block of online journalism, but there are smart, new tools to enhance i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ultimedia Options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video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udio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ebcams and webcasts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odcasts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nimated graphic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Online Storytelling Option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teractive Options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ive chats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ader feedback and comments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line polls and quizzes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ownload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ink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19T21:43:13Z</dcterms:created>
  <dc:creator>Administrator</dc:creator>
  <dc:description/>
  <dc:language>en-US</dc:language>
  <cp:lastModifiedBy>Administrator</cp:lastModifiedBy>
  <dcterms:modified xsi:type="dcterms:W3CDTF">2013-07-21T21:17:17Z</dcterms:modified>
  <cp:revision>7</cp:revision>
  <dc:subject/>
  <dc:title>Chapter Eight</dc:title>
</cp:coreProperties>
</file>